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2AAA-3BF6-43C8-9A7A-F56BB8218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6754-0B0F-40C3-B25F-61F63B17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8DA8-F7DB-48B6-BC4F-F9C11666B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1040-8F59-4304-9D0C-53BEA3018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F05D-C4A8-420E-9B7A-7670892D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E9DF-9110-40AF-8445-0117BA27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5DF9-1A14-40CB-BC5A-094D84B8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3598-B010-40AD-A105-BE3F405A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BF91-7248-41B0-B803-0D18E76A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2807-2D81-43B4-A098-8009ECAA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BE05-8EA6-4A1C-9E38-6CEB9DFB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2065-DE96-498A-A1C5-B17A8C37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D5806D-5B62-4DA8-BDA7-7864537A0CA2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6B5EE7-FC3E-456E-BF06-E43675A165F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hyperlink" Target="http://www.youtube.com/watch?v=VxacxShp3LY" TargetMode="Externa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7424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Title 1" descr=""/>
          <p:cNvPicPr/>
          <p:nvPr/>
        </p:nvPicPr>
        <p:blipFill>
          <a:blip r:embed="rId3"/>
          <a:stretch/>
        </p:blipFill>
        <p:spPr>
          <a:xfrm>
            <a:off x="682560" y="2120760"/>
            <a:ext cx="7778880" cy="1487520"/>
          </a:xfrm>
          <a:prstGeom prst="rect">
            <a:avLst/>
          </a:prstGeom>
          <a:ln w="0">
            <a:noFill/>
          </a:ln>
        </p:spPr>
      </p:pic>
      <p:pic>
        <p:nvPicPr>
          <p:cNvPr id="43" name="Subtitle 2" descr=""/>
          <p:cNvPicPr/>
          <p:nvPr/>
        </p:nvPicPr>
        <p:blipFill>
          <a:blip r:embed="rId4"/>
          <a:stretch/>
        </p:blipFill>
        <p:spPr>
          <a:xfrm>
            <a:off x="682560" y="3882960"/>
            <a:ext cx="7096320" cy="1762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verfishing is affecting the larger fish in the fishery that need to eat the smaller fish, that live there , to surviv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verfishing also affects people who need the fish to survive over the people who are using it for income in their econom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219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source deple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w biological growth rat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w biomass leve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3"/>
          <a:stretch/>
        </p:blipFill>
        <p:spPr>
          <a:xfrm>
            <a:off x="5043600" y="2743200"/>
            <a:ext cx="4100400" cy="2870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4"/>
          <a:stretch/>
        </p:blipFill>
        <p:spPr>
          <a:xfrm>
            <a:off x="0" y="4718160"/>
            <a:ext cx="4800600" cy="2139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uy less fis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mit amount of catches each da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trol bycatch (crustaceans &amp; other oceanic life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tection of pristine and important habita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nitoring and Enforce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6173640" y="4373640"/>
            <a:ext cx="2818080" cy="24843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urces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overfishing.org/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overfishing.org/pages/why_is_overfishing_a_problem.php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www.grinningplanet.com/2005/06-07/overfishing-article.ht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itle 1" descr=""/>
          <p:cNvPicPr/>
          <p:nvPr/>
        </p:nvPicPr>
        <p:blipFill>
          <a:blip r:embed="rId2"/>
          <a:stretch/>
        </p:blipFill>
        <p:spPr>
          <a:xfrm>
            <a:off x="450720" y="23760"/>
            <a:ext cx="9053640" cy="2622600"/>
          </a:xfrm>
          <a:prstGeom prst="rect">
            <a:avLst/>
          </a:prstGeom>
          <a:ln w="0">
            <a:noFill/>
          </a:ln>
        </p:spPr>
      </p:pic>
      <p:pic>
        <p:nvPicPr>
          <p:cNvPr id="79" name="Content Placeholder 2" descr=""/>
          <p:cNvPicPr/>
          <p:nvPr/>
        </p:nvPicPr>
        <p:blipFill>
          <a:blip r:embed="rId3"/>
          <a:stretch/>
        </p:blipFill>
        <p:spPr>
          <a:xfrm>
            <a:off x="249120" y="1347840"/>
            <a:ext cx="8444160" cy="478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Title 1" descr=""/>
          <p:cNvPicPr/>
          <p:nvPr/>
        </p:nvPicPr>
        <p:blipFill>
          <a:blip r:embed="rId2"/>
          <a:stretch/>
        </p:blipFill>
        <p:spPr>
          <a:xfrm>
            <a:off x="450720" y="-648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2286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atching fish faster than they can reproduc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t eventually leads to degradation of biodiversity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uman our selves are the cause of the problem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3">
            <a:lum contrast="-2000"/>
          </a:blip>
          <a:stretch/>
        </p:blipFill>
        <p:spPr>
          <a:xfrm>
            <a:off x="7416720" y="228600"/>
            <a:ext cx="127008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1447920" y="4648320"/>
            <a:ext cx="6394320" cy="2209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is the cause of over fishing?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umans tend to catch two to three more times than neede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nge in size of fishing equipment and amount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oing so causes some species to become endangered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tching fish illegall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shing Techniqu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5228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shing techneiques has changed over the years causing over fishing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shermen have started to use bigger nets, longer fishing lines and fish tracker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457200" y="3048120"/>
            <a:ext cx="8229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ycatch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unwanted fish are caught by fisherman, killed and then tossed back in the ocean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is one of the causes of over fishing, and a main reason fish are now becoming extinct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www.youtube.com/watch?v=OQZZhSSrRks&amp;feature=relat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56" name="Title 1" descr=""/>
          <p:cNvPicPr/>
          <p:nvPr/>
        </p:nvPicPr>
        <p:blipFill>
          <a:blip r:embed="rId3"/>
          <a:stretch/>
        </p:blipFill>
        <p:spPr>
          <a:xfrm>
            <a:off x="-311040" y="-6480"/>
            <a:ext cx="8699400" cy="16099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4876920" y="1371600"/>
            <a:ext cx="4267080" cy="5486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37160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-167760">
              <a:spcBef>
                <a:spcPts val="9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i="1" lang="en-US" sz="3800" spc="-1" strike="noStrike">
                <a:solidFill>
                  <a:srgbClr val="ff3d65"/>
                </a:solidFill>
                <a:latin typeface="Calibri"/>
              </a:rPr>
              <a:t>Big Eyed Tuna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marL="167760" indent="-167760">
              <a:spcBef>
                <a:spcPts val="9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800" spc="-1" strike="noStrike">
                <a:solidFill>
                  <a:srgbClr val="ff3d65"/>
                </a:solidFill>
                <a:latin typeface="Calibri"/>
              </a:rPr>
              <a:t>  </a:t>
            </a:r>
            <a:r>
              <a:rPr b="1" i="1" lang="en-US" sz="3800" spc="-1" strike="noStrike">
                <a:solidFill>
                  <a:srgbClr val="ff3d65"/>
                </a:solidFill>
                <a:latin typeface="Calibri"/>
              </a:rPr>
              <a:t>Bluefin Tuna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marL="167760" indent="-167760">
              <a:spcBef>
                <a:spcPts val="9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800" spc="-1" strike="noStrike">
                <a:solidFill>
                  <a:srgbClr val="ff3d65"/>
                </a:solidFill>
                <a:latin typeface="Calibri"/>
              </a:rPr>
              <a:t>  </a:t>
            </a:r>
            <a:r>
              <a:rPr b="1" i="1" lang="en-US" sz="3800" spc="-1" strike="noStrike">
                <a:solidFill>
                  <a:srgbClr val="ff3d65"/>
                </a:solidFill>
                <a:latin typeface="Calibri"/>
              </a:rPr>
              <a:t>Atlantic Cod or Scrod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marL="167760" indent="-167760">
              <a:spcBef>
                <a:spcPts val="9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800" spc="-1" strike="noStrike">
                <a:solidFill>
                  <a:srgbClr val="ff3d65"/>
                </a:solidFill>
                <a:latin typeface="Calibri"/>
              </a:rPr>
              <a:t>  </a:t>
            </a:r>
            <a:r>
              <a:rPr b="1" i="1" lang="en-US" sz="3800" spc="-1" strike="noStrike">
                <a:solidFill>
                  <a:srgbClr val="ff3d65"/>
                </a:solidFill>
                <a:latin typeface="Calibri"/>
              </a:rPr>
              <a:t>Gilt Darter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marL="167760" indent="-167760">
              <a:spcBef>
                <a:spcPts val="9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800" spc="-1" strike="noStrike">
                <a:solidFill>
                  <a:srgbClr val="ff3d65"/>
                </a:solidFill>
                <a:latin typeface="Calibri"/>
              </a:rPr>
              <a:t>  </a:t>
            </a:r>
            <a:r>
              <a:rPr b="1" i="1" lang="en-US" sz="3800" spc="-1" strike="noStrike">
                <a:solidFill>
                  <a:srgbClr val="ff3d65"/>
                </a:solidFill>
                <a:latin typeface="Calibri"/>
              </a:rPr>
              <a:t>Sponhead Sculpin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marL="167760" indent="-167760">
              <a:spcBef>
                <a:spcPts val="9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800" spc="-1" strike="noStrike">
                <a:solidFill>
                  <a:srgbClr val="ff3d65"/>
                </a:solidFill>
                <a:latin typeface="Calibri"/>
              </a:rPr>
              <a:t>  </a:t>
            </a:r>
            <a:r>
              <a:rPr b="1" i="1" lang="en-US" sz="3800" spc="-1" strike="noStrike">
                <a:solidFill>
                  <a:srgbClr val="ff3d65"/>
                </a:solidFill>
                <a:latin typeface="Calibri"/>
              </a:rPr>
              <a:t>Alabama CatFish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marL="167760" indent="-167760">
              <a:spcBef>
                <a:spcPts val="9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800" spc="-1" strike="noStrike">
                <a:solidFill>
                  <a:srgbClr val="ff3d65"/>
                </a:solidFill>
                <a:latin typeface="Calibri"/>
              </a:rPr>
              <a:t>  </a:t>
            </a:r>
            <a:r>
              <a:rPr b="1" i="1" lang="en-US" sz="3800" spc="-1" strike="noStrike">
                <a:solidFill>
                  <a:srgbClr val="ff3d65"/>
                </a:solidFill>
                <a:latin typeface="Calibri"/>
              </a:rPr>
              <a:t>Silver Chub  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wfoundland Cod Fishe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3"/>
          <a:stretch/>
        </p:blipFill>
        <p:spPr>
          <a:xfrm>
            <a:off x="685800" y="2209680"/>
            <a:ext cx="6350040" cy="443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itle 1" descr=""/>
          <p:cNvPicPr/>
          <p:nvPr/>
        </p:nvPicPr>
        <p:blipFill>
          <a:blip r:embed="rId2"/>
          <a:stretch/>
        </p:blipFill>
        <p:spPr>
          <a:xfrm>
            <a:off x="450720" y="171360"/>
            <a:ext cx="8242560" cy="1444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youtube.com/watch?v=VxacxShp3L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_x0016__x0016__x0016_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4"/>
          <a:stretch/>
        </p:blipFill>
        <p:spPr>
          <a:xfrm>
            <a:off x="2438280" y="3141720"/>
            <a:ext cx="4292640" cy="2984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Title 1" descr=""/>
          <p:cNvPicPr/>
          <p:nvPr/>
        </p:nvPicPr>
        <p:blipFill>
          <a:blip r:embed="rId2"/>
          <a:stretch/>
        </p:blipFill>
        <p:spPr>
          <a:xfrm>
            <a:off x="450720" y="-648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are allowing overfishing to occur because the government and the economy relies on the the income of the fisherma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fisherman can only make a profit if they continue to fish until there is nothing less for them to catch, and then they move 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14:05:01Z</dcterms:created>
  <dc:creator>PA Department of Education Classrooms for the Future</dc:creator>
  <dc:description/>
  <dc:language>en-US</dc:language>
  <cp:lastModifiedBy>PA Department of Education Classrooms for the Future</cp:lastModifiedBy>
  <dcterms:modified xsi:type="dcterms:W3CDTF">2011-02-14T14:35:12Z</dcterms:modified>
  <cp:revision>13</cp:revision>
  <dc:subject/>
  <dc:title>Overfishing</dc:title>
</cp:coreProperties>
</file>